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B51-16BD-4B16-A5F7-16649792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D9C-D26B-4259-8C14-3E76934E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ED9-06A1-491A-9328-07B1C3DE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599-CC67-44E0-ACE3-BC888D37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413-D4DC-4EBF-95F9-771B5FB4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4C1E-7700-4487-AB24-C7D2274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1B6-6F5E-4D0C-A09D-451E8B56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35CC-C201-4E54-88FE-1CDAE29F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999-DB76-4F7E-928B-B4B5FF8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48F-FEFA-4238-8CDA-C3A7487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3687-EE86-42E6-90D2-AF8A0B7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29A-83D0-4CC8-AEFF-30A602E7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1B7-CF41-4245-B5F0-59BE67A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6DB5-FD11-4E4E-83D8-77D427A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422-CEA4-41D2-ABB5-81E7C217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6820-BA05-4330-8B2B-01F7F03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F933-2AF1-471E-85AB-53C48440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999-EE39-4667-9677-0C0E9D29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249-E932-4D11-BF15-7A84CEA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BBD-2B29-4C23-956F-EDCD7F4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4B9-7C06-41BA-8E92-D5CEDD8F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8BF-4A23-429E-8EA9-A7D4737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A65-9E18-4557-8AE2-FEB911E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6F7-B26C-438B-B2C1-C531A8B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F398-97E2-4CB7-9B5C-9FCC9AEDB5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CDC-C61D-44BC-9889-4DCA29EC70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yriad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240" y="3179520"/>
            <a:ext cx="7194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Ратификация и подготовка к 1-ой Конференции сторон по Ашхабадской Рамочной конвенции об охране окружающей среды для устойчивого развития в Центральной Азии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827440"/>
            <a:ext cx="9144000" cy="14292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50000">
                <a:srgbClr val="669999"/>
              </a:gs>
              <a:gs pos="100000">
                <a:srgbClr val="2f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970600"/>
            <a:ext cx="9144000" cy="14292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50000">
                <a:srgbClr val="669999"/>
              </a:gs>
              <a:gs pos="100000">
                <a:srgbClr val="2f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min_logo" descr=""/>
          <p:cNvPicPr/>
          <p:nvPr/>
        </p:nvPicPr>
        <p:blipFill>
          <a:blip r:embed="rId2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UNEP" descr=""/>
          <p:cNvPicPr/>
          <p:nvPr/>
        </p:nvPicPr>
        <p:blipFill>
          <a:blip r:embed="rId3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  <p:pic>
        <p:nvPicPr>
          <p:cNvPr id="155" name="kyrgyzstan-flag" descr=""/>
          <p:cNvPicPr/>
          <p:nvPr/>
        </p:nvPicPr>
        <p:blipFill>
          <a:blip r:embed="rId4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56" name="tajikistan-flag" descr=""/>
          <p:cNvPicPr/>
          <p:nvPr/>
        </p:nvPicPr>
        <p:blipFill>
          <a:blip r:embed="rId5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57" name="turkmenistan" descr=""/>
          <p:cNvPicPr/>
          <p:nvPr/>
        </p:nvPicPr>
        <p:blipFill>
          <a:blip r:embed="rId6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8" name="uzbekistan-flag" descr=""/>
          <p:cNvPicPr/>
          <p:nvPr/>
        </p:nvPicPr>
        <p:blipFill>
          <a:blip r:embed="rId7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06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2040" y="3201120"/>
            <a:ext cx="2009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Myriad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Myriad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0600" y="252108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0600" y="2521080"/>
            <a:ext cx="3476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0600" y="3849840"/>
          <a:ext cx="6791400" cy="487080"/>
        </p:xfrm>
        <a:graphic>
          <a:graphicData uri="http://schemas.openxmlformats.org/drawingml/2006/table">
            <a:tbl>
              <a:tblPr/>
              <a:tblGrid>
                <a:gridCol w="3314880"/>
                <a:gridCol w="3476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yriad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yriad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90600" y="43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ный Секретариат конвенции (ЮНЕП АТР) и Депозитарий конвенции в Туркменистане – координируют деятельность по мониторингу процесса подписания и ратификации странам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шхабадской Рамочной конвенции об охране окружающей среды для устойчивого развития в Центральной 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67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484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Координац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172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52240" y="2954160"/>
            <a:ext cx="81342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 Конвенция вступает в силу на 90-й день после даты депозита документов (инструментов) ратификации, принятия, утверждения всеми странами Центральной Азии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 1-я Конференция Сторон должна быть проведена не позднее 12 месяцев после даты вступления Конвенции в сил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76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Условия проведения Конференции</a:t>
            </a:r>
            <a:br>
              <a:rPr sz="2800"/>
            </a:b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  Сторон Рамочной конвенци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181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5509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бор международного консультанта для подготовки проектов документов по Конференции Сторон (ЮНЕП АТР, январь 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ставление проекта финансового механизма и разработка критериев по оценке заявок на размещение постоянного  Секретариата конвенции (февраль-май 2008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работка Положения о постоянном Секретариате конвенции (февраль-май 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4840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Подготовка к проведению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Конференции Сторон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188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190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1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80044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проекта процедурных правил, в т.ч. финансовых правил в соответствии с предложенным форматом по бюджету и финансовой отчетности (февраль-май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проекта процедурных правил (июнь-август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оценка заявок на размещение постоянного Секретариата конвенции (май-сентябрь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110880"/>
            <a:ext cx="74484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Подготовка к проведению</a:t>
            </a:r>
            <a:br>
              <a:rPr sz="2800"/>
            </a:b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Конференции Сторон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199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752200"/>
            <a:ext cx="8229600" cy="36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1-й Консультативной встречи Сторон (октябрь 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есмотр проектов процедурных документов (ноябрь 2008 –февраль 200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спространение пересмотренных проектов процедурных документов (март-май 200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едение 2-й Консультативной встречи Сторон (июнь-июль 200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203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122040"/>
            <a:ext cx="744840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Подготовка к проведению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Конференции Сторон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206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208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9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3560" y="295380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тоговых версий процедурных документов (август-сентябрь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1-й Конференции Сторон Рамочной Конвенции (октябрь-ноябрь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kyrgyzstan-flag" descr=""/>
          <p:cNvPicPr/>
          <p:nvPr/>
        </p:nvPicPr>
        <p:blipFill>
          <a:blip r:embed="rId1"/>
          <a:stretch/>
        </p:blipFill>
        <p:spPr>
          <a:xfrm>
            <a:off x="2673360" y="2826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tajikistan-flag" descr=""/>
          <p:cNvPicPr/>
          <p:nvPr/>
        </p:nvPicPr>
        <p:blipFill>
          <a:blip r:embed="rId2"/>
          <a:stretch/>
        </p:blipFill>
        <p:spPr>
          <a:xfrm>
            <a:off x="3900600" y="27792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122040"/>
            <a:ext cx="744840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Подготовка к проведению</a:t>
            </a:r>
            <a:br>
              <a:rPr sz="2800"/>
            </a:b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        Конференции Сторон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turkmenistan" descr=""/>
          <p:cNvPicPr/>
          <p:nvPr/>
        </p:nvPicPr>
        <p:blipFill>
          <a:blip r:embed="rId3"/>
          <a:stretch/>
        </p:blipFill>
        <p:spPr>
          <a:xfrm>
            <a:off x="5168880" y="264960"/>
            <a:ext cx="125748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uzbekistan-flag" descr=""/>
          <p:cNvPicPr/>
          <p:nvPr/>
        </p:nvPicPr>
        <p:blipFill>
          <a:blip r:embed="rId4"/>
          <a:stretch/>
        </p:blipFill>
        <p:spPr>
          <a:xfrm>
            <a:off x="6526080" y="277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434960" y="287280"/>
            <a:ext cx="1143000" cy="581040"/>
          </a:xfrm>
          <a:prstGeom prst="rect">
            <a:avLst/>
          </a:prstGeom>
          <a:ln w="0">
            <a:noFill/>
          </a:ln>
        </p:spPr>
      </p:pic>
      <p:pic>
        <p:nvPicPr>
          <p:cNvPr id="217" name="min_logo" descr=""/>
          <p:cNvPicPr/>
          <p:nvPr/>
        </p:nvPicPr>
        <p:blipFill>
          <a:blip r:embed="rId6"/>
          <a:stretch/>
        </p:blipFill>
        <p:spPr>
          <a:xfrm>
            <a:off x="1425600" y="965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UNEP" descr=""/>
          <p:cNvPicPr/>
          <p:nvPr/>
        </p:nvPicPr>
        <p:blipFill>
          <a:blip r:embed="rId7"/>
          <a:stretch/>
        </p:blipFill>
        <p:spPr>
          <a:xfrm>
            <a:off x="7062840" y="906480"/>
            <a:ext cx="657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94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400" y="327816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5720" y="3100320"/>
            <a:ext cx="64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yriad Roman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8:02:36Z</dcterms:created>
  <dc:creator>Vladimir Stavric</dc:creator>
  <dc:description/>
  <dc:language>en-US</dc:language>
  <cp:lastModifiedBy>User</cp:lastModifiedBy>
  <dcterms:modified xsi:type="dcterms:W3CDTF">2007-11-16T05:15:26Z</dcterms:modified>
  <cp:revision>380</cp:revision>
  <dc:subject/>
  <dc:title>National Capacity Self Assessment (NCSA)  for Global Environmental Management</dc:title>
</cp:coreProperties>
</file>